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Тема 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Вводная л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нятие «информация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й закон «Об информации, информационных технологиях и  защите информации» дает следующее определ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— сведения (сообщения, данные) независимо от формы их представл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пособы документирования (способы фиксации информации)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ы документирования — запись информации на различных носителях по установленным прави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волюция материалов на которых закрепляли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высекались на камне, стенах пирамид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реписки применяли глиняные и деревянные дощечки, папирус, пергамент,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ХIХ века фото-документы, фоно-документы, кино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Х века магнитные ленты, цифровые носители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 — элемент внутренней организации любого учреждения, предприятия, фирмы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я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ием для принятия управленческих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ель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ом для обобщ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ом справочно-поисков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Документирование информации позволяет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фиксировать ее на определенном носите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ь ей необходимую организационную фор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стоверить подлинность и юридическую сил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бдить необходимыми реквизитами для ее идентификации в целях поиска и ис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ить полноценную информационную поддержку управленческих процес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ь информационный ресурс в целях развития организации и сохранения индивидуальной памяти о ней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 и задачи курса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ятие и развитие термина «делопроизвод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Что в себя включает современное делопроизвод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Термин «делопроизводство» и «документационное обеспечение управл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основные понятия используются в курсе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  Санкина Л.В. Делопроизводство в коммерческой организации: на примере акционерного общества.- М.: Изд-во МЦФЭР: 2009.-43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 Федеральный закон от 29 июля 2006 г. «Об информации, информационных технологиях и о защите информации» // Российская газета от 30 июля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F043-6EE4-4724-9C80-88EC332BCFB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D366-A371-40DF-B85C-716C56D4214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Цель курса «Организация и технология документационного обеспечения управления»: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604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углубленное изучение особенностей формирования и развития систем национального делопроизводства в различные исторические периоды и ознакомление с теорией и практикой организации современного документационного обеспечения на основе научно обоснованных принципов и методов его совершенств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урса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Организация и технология документационного обеспечения управления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ледить становление и развитие понятий «делопроизводство» и «документационное обеспечение управления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тить место делопроизводства в процессах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 историей развития системы государственного делопроизвод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формировать у студентов рациональные подходы к решению задач организации работы с документами в учре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тудентов с современными типовыми структурами служб Д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ить современные технологии документационного обеспечения 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результате изучения курса «Организация и технология документационного обеспечения управления» студент должен зн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нденции развития делопроизводства в государственном аппарате управления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формирования структуры, функций, штатного состава делопроизводственных подразделений и обязанности служащих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рганизации работы с документами от развития аппарата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 технологию обработки документов на основе использования средств организационной и вычислительной техни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е направления развития и пути совершенствования документационного обеспечения управлен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научные и практические проблемы организации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о-методические документы, регламентирующие документационное обеспечение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мерности изменения объёма документооборо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циональную технологию приёма, прохождения, подготовки и отправления документов в традиционных и автоматизированных системах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ования к ручным и автоматизированным информационно-поисковым системам (ИПС) по документам организа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контроля за сроками испол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составления классификационных справочников (номенклатура дел, классификаторы различных видов, перечень документов со сроками хранения) и направления их исполь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ю оперативного хранения документов и подготовки документов к передаче в ведомственный архив (включая экспертизу ценности документов, оформление дел, составление опис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удент должен уметь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фицировать и проектировать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ять документы в соответствии с требованиями государственных станда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ять унифицированные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ть историческую и практическую ценность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иступая к изучению курса, прежде всего следует ознакомиться с основными профессиональными терминами и определениями постоянно встречающимися в работе с документам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8596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отрасль деятельности, обеспечивающая документирование и организацию работы с официальными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начально термин появился в устной речи (предположительно в XVIII в.) и означал процесс решения (производства) дела: "дело производить - решать вопрос. В ходе решения возникла необходимость закрепления результата, например, достигнутой договоренности". Для этого издревле издавали документы, т.к. устное слово кратковременно, могло быть забыто, искажено при передаче или не так поня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же в XVI в. употребляется слово дело как собрание документов, относящихся к какому-либо вопросу. Впервые в этом понятии слово "дело" зафиксировано в документах в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8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Современное делопроизводство включ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своевременного и правильного создания документов (документирование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ю работы с документами (получение, передача, обработка, учет, регистрация, контроль, хранение, систематизация, подготовка документов для сдачи в архив, уничтож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аллельно с термином "делопроизводство" в последние десятилетия используется термин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документационное обеспечение управления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появление связано с внедрением в управление компьютерных систем. Термины "делопроизводство" и "ДОУ" являются синонимами и применяются для обозначения одной и той же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сновные понятия курса  «Организация и технология документационного обеспечения управления» 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Организация работы с документами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обеспечение движения документов в аппарате управления, их использования в справочных целях 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Документооборо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движение документов в организации с момента их создания или получения до завершения исполнения или от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В технологию работ с документами вход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ем и первичная обработка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предварительное рассмотрение и распределени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гистрация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формационно-справочная работ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справ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стематизация (формирование дел) и текущее хранение докумен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Регис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запись учетных данных о документе по установленной форме, фиксирующая факт его создания, отправления или пол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Контроль исполнения документов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окупность действий, обеспечивающих их современное испол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Формирование дел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группирование исполненных документов в дело в соответствии с номенклатурой дел (систематизированным перечнем наименований дел, завозить в организации, с указанием сроков их хранения, оформленным в установленном порядке) и систематизация документов внутри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5T10:30:59Z</dcterms:modified>
  <cp:revision>121</cp:revision>
  <dc:subject/>
  <dc:title>Lecture Template </dc:title>
</cp:coreProperties>
</file>